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983-6550-4349-8AA2-4CAA4C53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028-0176-48A7-B78C-85F89C39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F8C-0C1C-492D-941F-B2CC6D6A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4AA-2B9A-416D-B97E-E274184A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E41-2040-4054-93C3-E18E472E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AC2-C363-45C0-A6BD-57EDEC20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F6C-C38D-4168-8962-321B048E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0C2-841C-423C-96E4-81825EE8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1D4-89B0-4BC5-98F1-0383AF20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55B-0E23-4A94-ACF7-4FE97488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B8A-A8DE-4848-A1A8-309E4993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E38-2BA9-430C-BFD6-FCB7AC6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3FF2-C2B6-4531-A528-C3D346DBC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3080" y="0"/>
          <a:ext cx="6172200" cy="900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0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43080" y="142920"/>
          <a:ext cx="6172200" cy="900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42920"/>
                    <a:ext cx="6172200" cy="90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our</cp:lastModifiedBy>
  <dcterms:modified xsi:type="dcterms:W3CDTF">2009-03-11T08:51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